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4640263" cy="6616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640400" cy="661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628720" y="-36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66720" y="496440"/>
            <a:ext cx="3308400" cy="248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61920" rIns="6192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28632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2628720" y="628632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B60C-667D-4DD4-83F9-F8808DA86890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6941-9A20-437B-B924-B5D7B520E64E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0185-AA80-49DD-9917-9FF1A673EFF8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말 프로그래밍된 컴퓨터가 그러한 답변을 훌륭하게 해낼 수 있을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문제는 논외로 하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63D6-841A-47D5-8C0C-CEBBF1E7C900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8C17-49EA-4940-A2B9-1D89519D3800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계도 실수를 할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계도 자신의 프로그램을 수정하며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계 조작의 주체가 될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억 용량만 커진다면 기계도 행동의 다양성을 보일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해진 절차에 의한 결과라도 새롭다고 할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BF68-5D07-4A52-8825-65C3CA99A688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3313-7885-4BB1-B3E4-899B1CE04FE2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식적으로 지키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행위 규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모든 상황에 대해 존재할 수 없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연 법칙으로서의 완전한 행동 법칙이 존재하지 않는다는 것은 확신할 수 없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계가 인간을 따라 수행해야 하는 규칙은 행동 법칙이지 행위 규칙이 아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48AF-C117-42CD-A78D-56C4B2B029CC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0227-919D-4566-B5EF-5272FAC93E1D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체스는 인간을 흉내내다 못해 능가해버렸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럼에도 이 수행에서도 컴퓨터와 인간은 특징적인 차이를 보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컴퓨터는 아주 짧은 시간 내에 두어야 할 경우에 능력 잘 발휘하는 반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람은 각각의 수에 시간이 충분히 주어진 경우에 능력을 더 잘 발휘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컴퓨터는 정밀하고 빠른 계산에 근거하여 결정을 내리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간은 비교적 느린 의식적 평가에 근거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판단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많이 이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간은 이러한 판단력을 이용하여 각 계산 단계에서 고려해야 할 가능한 상황의 개수를 대폭 줄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런 차이를 어떻게 알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어떻게 수를 뒀는지 물어봄으로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8911-204F-467C-94C3-5CB6B98B9034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외부 정보에 따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-p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값을 미리 정의해 두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것을 극대화하는 방향으로 움직이도록 프로그래밍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예를 들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동종의 기계를 만날 때마다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p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수를 높여 그들과 가까이하고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욕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심어주거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외부 세계의 사실을 메모리에 저장할 때마다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p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수를 높임으로써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학구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심어줄 수도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5F31-488B-48C9-A2BD-F9BC01D6686D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히려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p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수에 따른 기계의 행동은 의식적 행동보다는 반사작용과 비슷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픔을 줄이기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해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는 즐거움을 얻기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해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행동하는 것이 아닌 것 같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강한 인공지능에 따르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심지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온도 조절 장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도 마음이 있게 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2244-F7F3-4D3A-AB4A-AE95962D3FC8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4D60-DE6E-48ED-A5EF-DC6E6481EAA9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CCC7-1BC0-4E9D-90F7-04F11AC9B785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A7B6-FDB1-4806-BEBC-3DAFE8BDB251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DF6D-44DE-4CF9-AF7C-7EA95B58778F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40F3-0FDF-454A-B0BF-5F3A664B01FC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E095-D14C-43C4-9E0A-BDCA65822DE1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데카르트에게 마음과 신체는 배타적 존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마음과 신체를 연결하는 곳이 필요한 데 그곳이 뇌의 한 부분인 송과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마음은 공간을 차지하고 있지 않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데카르트에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마음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각하는 존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 반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체는 기계에 불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한 동물은 마음이 없는 자동기계에 불과하다고 생각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러한 관점은 이후 생물학의 발전으로 뇌와 마음 사이의 관련성이 밝혀짐으로써 엄청난 도전을 받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리고 한편으로는 컴퓨터의 개발로 심각한 도전을 받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AC3D-414E-4641-9941-932420F4E042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동영상에서 나온 검사는 외양까지 검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동공 변화 검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가장 중요한 검사는 질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답변을 통한 검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검사는 바로 앨런 튜링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5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논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산 기계와 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흉내내기 게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 처음 등장하여 이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튜링 테스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불리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6908-548B-4B24-9280-0A00772FACBE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성은 눈치 챌 수 없도록 질문과 대답은 타이핑으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러한 테스트를 통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질문자가 기계와 사람을 혼동할 수 있을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07AB-1F78-4061-9B15-4E90268D1A1E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B939-9910-4E10-AC61-CE0BFF83721F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976C-BDF5-46E6-8D7D-622174A20764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BB48-D6BC-49FE-899E-8B6A6AB0B0A8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666720" y="496800"/>
            <a:ext cx="3308400" cy="24814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럼에도 사람은 어떻게든 위기를 모면할 수 있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계는 내부 알고리즘에 의해 영영 빠져나올 수 없는 상황이 있지 않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슬라이드 번호 개체 틀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E29E-7B01-4DE8-97A4-12F0AF8C92C5}" type="slidenum"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D8D-6976-4833-A5AB-305185DA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DC1-6FA4-4B13-ACE1-29B56C0C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90A-562D-4320-8940-9A3EA91F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F16D-920A-4161-BF0A-7456684B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4DC-CB6D-4E8D-A150-BAD845CB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FB8-2B6A-4307-83AB-FA7FED07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BC9-985E-4B37-A71A-F1D6A313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B6E-ACD2-423F-8A89-372F4827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6CF-39B6-408F-89C9-2E8A5C8F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5BA-78C5-41EA-92CA-F15DB293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8C2-0DD9-4F2C-9A95-04A4ED45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4D0-A1D4-4094-98BD-8F942E47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88AF-ED6D-4817-9BF7-BC1477B3C3A4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lbot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hJVaTqU2So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19640" y="279360"/>
            <a:ext cx="3673440" cy="451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기계는 생각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할 수 있는가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2" descr="http://lifeboat.com/images/artificial.intelligence.jpg"/>
          <p:cNvPicPr/>
          <p:nvPr/>
        </p:nvPicPr>
        <p:blipFill>
          <a:blip r:embed="rId1"/>
          <a:stretch/>
        </p:blipFill>
        <p:spPr>
          <a:xfrm>
            <a:off x="539640" y="333360"/>
            <a:ext cx="47102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의식을 근거로 한 주장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“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기호가 어떤 우연으로 만들어지는 것이 아니고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사고나 느낌에 의해 기계가 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14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행시를 짓거나 협주곡을 작곡할 수 있게 될 때 비로소 우리는 기계가 뇌에 필적한다고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즉 기계가 단지 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14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행시를 쓴 것만이 아니라 그것을 쓴 사실을 알고 있다는 데 동의할 수 있다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. 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어떤 기계 장치도 그것이 성공했을 때의 기쁨을 느끼거나 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(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단지 인위적으로 신호를 보내는 간편한 장치로서가 아니라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), 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진공관이 끊어졌을 때 슬픔을 느낄 수는 없다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. 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또한 아첨을 받았을 때 기분이 좋아지거나 실수를 범했을 때 비참한 기분이 드는 일도 없다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. 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성적으로 매료되지도 않고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원하는 것을 손에 넣지 못해서 노하거나 우울해지지도 않는다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.” (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제퍼슨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,</a:t>
            </a:r>
            <a:r>
              <a:rPr b="1" lang="ko-KR" sz="2200" spc="-1" strike="noStrike">
                <a:solidFill>
                  <a:srgbClr val="c00000"/>
                </a:solidFill>
                <a:latin typeface="맑은 고딕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맑은 고딕"/>
              </a:rPr>
              <a:t>1949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튜링의 반론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다른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‘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사람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’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이 그런 의식적 특징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이해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기쁨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슬픔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흥분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분노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우울 등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)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을 가진다는 것은 어떻게 믿느냐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만약 기계가 튜링 테스트에서 이해를 보여주는 듯한 답변을 훌륭하게 해낸다면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제퍼슨은 무슨 말을 할 수 있을까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여러 결함을 근거로 한 주장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인간 사고가 가진 여러 특징을 컴퓨터는 가지지 못한다는 주장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예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: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주체적일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유머 감각을 가질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선악을 분간할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실수를 할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좋아하거나 싫어할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경험으로부터 배울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생각의 주체가 될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행동의 다양성을 가질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전혀 새로운 일을 할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튜링의 반론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과거의 기계들로부터 잘못된 귀납한 결과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행위의 비형식성에 근거한 주장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생각할 수 있는 모든 상황 집합에서 어떤 사람이 무슨 일을 할 것인지를 기술하기 위한 규칙들의 집합을 만들어낸다는 것은 불가능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따라서 사람은 규칙에 따라 작동할 뿐인 기계일 수 없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튜링의 반론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‘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행위 규칙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’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과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‘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행동 법칙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’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 구분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튜링 요약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튜링 테스트로 인간과 구별이 안 되는 기계는 생각을 한다고 할 수 있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디지털 컴퓨터로 계산 가능한 한계</a:t>
            </a:r>
            <a:br>
              <a:rPr sz="3000"/>
            </a:b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=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생각의 한계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마음은 특정한 종류의 기계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디지털 컴퓨터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프로그램에 따른 기호 처리기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)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이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“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인공 지능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”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연구 탄생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인공 지능 연구들의 성과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그레이 월터의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‘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거북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tortoise)’ (1950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년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튜링 테스트 통과를 위한 채팅 봇들</a:t>
            </a:r>
            <a:br>
              <a:rPr sz="3000"/>
            </a:br>
            <a:r>
              <a:rPr b="0" lang="en-US" sz="3000" spc="-1" strike="noStrike" u="sng">
                <a:solidFill>
                  <a:srgbClr val="0000ff"/>
                </a:solidFill>
                <a:uFillTx/>
                <a:latin typeface="맑은 고딕"/>
                <a:hlinkClick r:id="rId1"/>
              </a:rPr>
              <a:t>http://www.elbot.com/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 (2009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체스 컴퓨터 딥 블루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패턴 인식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기계 학습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…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즐거움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고통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의 문제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배터리가 떨어져 충전기로 돌아가는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‘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거북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: “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배가 고파서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”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“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충전의 욕구가 생긴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”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기본적인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AI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시뮬레이션 기법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: P(leasure)-P(ain)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계수 극대화 기법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그러나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기계가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p-p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계수의 변화에 따라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기쁨이나 아픔을 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‘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느낀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’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고 할 수 있는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Yes: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강한 인공지능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strong AI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No: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약한 인공지능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weak AI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근본적인 질문들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생각한다는 것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느낀다는 것은 무엇인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마음은 무엇인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마음은 실제로 존재하는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마음은 그 물리적 구조물과 어떤 관계인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마음은 특정한 물리적 구조의 기능인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그 물리적 구조는 꼭 뇌여야만 하는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기계도 마음을 가질 수 있는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존 설의 중국어 방 사고실험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강한 인공지능에 대한 비판을 위해 설계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튜링 테스트의 통과가 마음의 존재를 보이기에 충분히 않음을 주장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의도성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intentionality)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의 문제 부각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프로그램을 넘어서는 물리적 인과 관계에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대한 관심 부각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기호 조작을 넘어서는 의미의 문제 부각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중국어방 상황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1712880"/>
            <a:ext cx="77724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나는 방 안에서 중국어로 스토리와 질문을 받아 중국어로 대답을 제출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그러나 나는 중국어를 그림 기호처럼 볼 수만 있을 뿐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중국어를 하지 못함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다만 나는 스토리와 질문에 적힌 중국어 기호를 다루는 규칙이 명세된 한글책에 따라 그 일을 수행할 뿐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과연 나는 스토리의 내용을 이해하고 있을까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존 설의 주장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나의 입력과 출력은 중국인과 똑같음에도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컴퓨터 프로그램처럼 일을 수행한 나는 스토리를 전혀 이해하지 못한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마찬가지로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프로그램에 따라 기호를 조작할 뿐인 컴퓨터가 인간과 똑같은 입력을 받아 출력을 준다 하더라도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인간처럼 이해를 가질 수 없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! (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강한 인공지능 비판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읽을거리와 과제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존 설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“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마음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뇌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프로그램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중국어방에서 내가 중국어 질문을 받아 대답하는 상황과 한글로 된 질문을 받아 대답하는 상황 사이의 본질적인 차이란 무엇일까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에 대해 존 설은 어떤 답을 가지고 있는가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존 설의 답에 대해 어떻게 생각하는가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당신이라면 어떤 답을 하고 싶은가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참고자료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앨런 튜링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“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계산 기계와 지능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”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[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『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런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게 바로 나야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』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1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권에 수록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존 설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“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마음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뇌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프로그램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”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[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『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런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게 바로 나야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』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2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권에 수록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호프스태터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&amp;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대닛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『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런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게 바로 나야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』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총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2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권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(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사이언스북스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2001)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로저 펜로즈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『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황제의 새 마음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』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(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이화여자대학교출판부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, 1996), 1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장 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“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컴퓨터도 마음을 소유할 수 있는가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데카르트의 이원론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" name="그림 3" descr="user_full_512.png"/>
          <p:cNvPicPr/>
          <p:nvPr/>
        </p:nvPicPr>
        <p:blipFill>
          <a:blip r:embed="rId1"/>
          <a:stretch/>
        </p:blipFill>
        <p:spPr>
          <a:xfrm>
            <a:off x="-181080" y="2781360"/>
            <a:ext cx="3292560" cy="3292560"/>
          </a:xfrm>
          <a:prstGeom prst="rect">
            <a:avLst/>
          </a:prstGeom>
          <a:ln w="0">
            <a:noFill/>
          </a:ln>
        </p:spPr>
      </p:pic>
      <p:pic>
        <p:nvPicPr>
          <p:cNvPr id="54" name="그림 5" descr="user_full_512.png"/>
          <p:cNvPicPr/>
          <p:nvPr/>
        </p:nvPicPr>
        <p:blipFill>
          <a:blip r:embed="rId2"/>
          <a:stretch/>
        </p:blipFill>
        <p:spPr>
          <a:xfrm>
            <a:off x="5672160" y="2800440"/>
            <a:ext cx="3292560" cy="3292560"/>
          </a:xfrm>
          <a:prstGeom prst="rect">
            <a:avLst/>
          </a:prstGeom>
          <a:ln w="0">
            <a:noFill/>
          </a:ln>
        </p:spPr>
      </p:pic>
      <p:sp>
        <p:nvSpPr>
          <p:cNvPr id="55" name="타원 6"/>
          <p:cNvSpPr/>
          <p:nvPr/>
        </p:nvSpPr>
        <p:spPr>
          <a:xfrm>
            <a:off x="4643280" y="3068640"/>
            <a:ext cx="968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타원 7"/>
          <p:cNvSpPr/>
          <p:nvPr/>
        </p:nvSpPr>
        <p:spPr>
          <a:xfrm>
            <a:off x="7304040" y="3030480"/>
            <a:ext cx="95400" cy="11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등호 8"/>
          <p:cNvSpPr/>
          <p:nvPr/>
        </p:nvSpPr>
        <p:spPr>
          <a:xfrm>
            <a:off x="2768760" y="2997360"/>
            <a:ext cx="723600" cy="385560"/>
          </a:xfrm>
          <a:custGeom>
            <a:avLst/>
            <a:gdLst>
              <a:gd name="textAreaLeft" fmla="*/ 95760 w 723600"/>
              <a:gd name="textAreaRight" fmla="*/ 627840 w 723600"/>
              <a:gd name="textAreaTop" fmla="*/ 79200 h 385560"/>
              <a:gd name="textAreaBottom" fmla="*/ 306360 h 385560"/>
            </a:gdLst>
            <a:ahLst/>
            <a:rect l="textAreaLeft" t="textAreaTop" r="textAreaRight" b="textAreaBottom"/>
            <a:pathLst>
              <a:path w="723386" h="385903">
                <a:moveTo>
                  <a:pt x="95885" y="79496"/>
                </a:moveTo>
                <a:lnTo>
                  <a:pt x="627501" y="79496"/>
                </a:lnTo>
                <a:lnTo>
                  <a:pt x="627501" y="170260"/>
                </a:lnTo>
                <a:lnTo>
                  <a:pt x="95885" y="170260"/>
                </a:lnTo>
                <a:close/>
                <a:moveTo>
                  <a:pt x="95885" y="215643"/>
                </a:moveTo>
                <a:lnTo>
                  <a:pt x="627501" y="215643"/>
                </a:lnTo>
                <a:lnTo>
                  <a:pt x="627501" y="306407"/>
                </a:lnTo>
                <a:lnTo>
                  <a:pt x="95885" y="306407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덧셈 기호 9"/>
          <p:cNvSpPr/>
          <p:nvPr/>
        </p:nvSpPr>
        <p:spPr>
          <a:xfrm>
            <a:off x="5697360" y="2852640"/>
            <a:ext cx="530280" cy="550800"/>
          </a:xfrm>
          <a:custGeom>
            <a:avLst/>
            <a:gdLst>
              <a:gd name="textAreaLeft" fmla="*/ 70200 w 530280"/>
              <a:gd name="textAreaRight" fmla="*/ 460080 w 530280"/>
              <a:gd name="textAreaTop" fmla="*/ 213120 h 550800"/>
              <a:gd name="textAreaBottom" fmla="*/ 337680 h 550800"/>
            </a:gdLst>
            <a:ahLst/>
            <a:rect l="textAreaLeft" t="textAreaTop" r="textAreaRight" b="textAreaBottom"/>
            <a:pathLst>
              <a:path w="530483" h="551290">
                <a:moveTo>
                  <a:pt x="70315" y="213260"/>
                </a:moveTo>
                <a:lnTo>
                  <a:pt x="202857" y="213260"/>
                </a:lnTo>
                <a:lnTo>
                  <a:pt x="202857" y="73073"/>
                </a:lnTo>
                <a:lnTo>
                  <a:pt x="327626" y="73073"/>
                </a:lnTo>
                <a:lnTo>
                  <a:pt x="327626" y="213260"/>
                </a:lnTo>
                <a:lnTo>
                  <a:pt x="460168" y="213260"/>
                </a:lnTo>
                <a:lnTo>
                  <a:pt x="460168" y="338030"/>
                </a:lnTo>
                <a:lnTo>
                  <a:pt x="327626" y="338030"/>
                </a:lnTo>
                <a:lnTo>
                  <a:pt x="327626" y="478217"/>
                </a:lnTo>
                <a:lnTo>
                  <a:pt x="202857" y="478217"/>
                </a:lnTo>
                <a:lnTo>
                  <a:pt x="202857" y="338030"/>
                </a:lnTo>
                <a:lnTo>
                  <a:pt x="70315" y="33803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10"/>
          <p:cNvSpPr/>
          <p:nvPr/>
        </p:nvSpPr>
        <p:spPr>
          <a:xfrm>
            <a:off x="3995640" y="213372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맑은 고딕"/>
                <a:ea typeface="맑은 고딕"/>
              </a:rPr>
              <a:t>마음</a:t>
            </a:r>
            <a:r>
              <a:rPr b="0" lang="en-US" sz="2400" spc="-1" strike="noStrike">
                <a:solidFill>
                  <a:srgbClr val="003366"/>
                </a:solidFill>
                <a:latin typeface="맑은 고딕"/>
                <a:ea typeface="맑은 고딕"/>
              </a:rPr>
              <a:t>Mi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11"/>
          <p:cNvSpPr/>
          <p:nvPr/>
        </p:nvSpPr>
        <p:spPr>
          <a:xfrm>
            <a:off x="6659640" y="2060640"/>
            <a:ext cx="129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맑은 고딕"/>
                <a:ea typeface="맑은 고딕"/>
              </a:rPr>
              <a:t>신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맑은 고딕"/>
                <a:ea typeface="맑은 고딕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2"/>
          <p:cNvSpPr/>
          <p:nvPr/>
        </p:nvSpPr>
        <p:spPr>
          <a:xfrm>
            <a:off x="826920" y="2060640"/>
            <a:ext cx="129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맑은 고딕"/>
                <a:ea typeface="맑은 고딕"/>
              </a:rPr>
              <a:t>인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맑은 고딕"/>
                <a:ea typeface="맑은 고딕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타원 13"/>
          <p:cNvSpPr/>
          <p:nvPr/>
        </p:nvSpPr>
        <p:spPr>
          <a:xfrm>
            <a:off x="3708360" y="2781360"/>
            <a:ext cx="1871640" cy="2016000"/>
          </a:xfrm>
          <a:prstGeom prst="ellipse">
            <a:avLst/>
          </a:prstGeom>
          <a:solidFill>
            <a:srgbClr val="4f81bd">
              <a:alpha val="3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생각하는 존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타원 14"/>
          <p:cNvSpPr/>
          <p:nvPr/>
        </p:nvSpPr>
        <p:spPr>
          <a:xfrm>
            <a:off x="6372360" y="2781360"/>
            <a:ext cx="1871640" cy="2016000"/>
          </a:xfrm>
          <a:prstGeom prst="ellipse">
            <a:avLst/>
          </a:prstGeom>
          <a:solidFill>
            <a:srgbClr val="4f81bd">
              <a:alpha val="3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5329080"/>
            <a:ext cx="74883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인간을 감쪽같이 닮은 자동 기계가 있다면 기계와 인간을 어떻게 구별할 수 있을까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6" name="Picture 4" descr="http://postfiles7.naver.net/20100607_278/ghost0221_12758711426054UzF1_jpg/blade20runner20racheal_ghost0221.jpg?type=w3">
            <a:hlinkClick r:id="rId1"/>
          </p:cNvPr>
          <p:cNvPicPr/>
          <p:nvPr/>
        </p:nvPicPr>
        <p:blipFill>
          <a:blip r:embed="rId2"/>
          <a:srcRect l="0" t="0" r="0" b="25703"/>
          <a:stretch/>
        </p:blipFill>
        <p:spPr>
          <a:xfrm>
            <a:off x="2411280" y="620640"/>
            <a:ext cx="410544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튜링 테스트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(1950)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00000"/>
              </a:solidFill>
              <a:latin typeface="맑은 고딕"/>
            </a:endParaRPr>
          </a:p>
        </p:txBody>
      </p:sp>
      <p:pic>
        <p:nvPicPr>
          <p:cNvPr id="69" name="그림 3" descr="avatar_128.png"/>
          <p:cNvPicPr/>
          <p:nvPr/>
        </p:nvPicPr>
        <p:blipFill>
          <a:blip r:embed="rId1"/>
          <a:stretch/>
        </p:blipFill>
        <p:spPr>
          <a:xfrm>
            <a:off x="3564000" y="51577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그림 5" descr="home_512.png"/>
          <p:cNvPicPr/>
          <p:nvPr/>
        </p:nvPicPr>
        <p:blipFill>
          <a:blip r:embed="rId2"/>
          <a:stretch/>
        </p:blipFill>
        <p:spPr>
          <a:xfrm>
            <a:off x="1042920" y="1916280"/>
            <a:ext cx="2583000" cy="2582640"/>
          </a:xfrm>
          <a:prstGeom prst="rect">
            <a:avLst/>
          </a:prstGeom>
          <a:ln w="0">
            <a:noFill/>
          </a:ln>
        </p:spPr>
      </p:pic>
      <p:pic>
        <p:nvPicPr>
          <p:cNvPr id="71" name="그림 7" descr="home_512.png"/>
          <p:cNvPicPr/>
          <p:nvPr/>
        </p:nvPicPr>
        <p:blipFill>
          <a:blip r:embed="rId3"/>
          <a:stretch/>
        </p:blipFill>
        <p:spPr>
          <a:xfrm>
            <a:off x="5148360" y="1927080"/>
            <a:ext cx="2582640" cy="2581560"/>
          </a:xfrm>
          <a:prstGeom prst="rect">
            <a:avLst/>
          </a:prstGeom>
          <a:ln w="0">
            <a:noFill/>
          </a:ln>
        </p:spPr>
      </p:pic>
      <p:pic>
        <p:nvPicPr>
          <p:cNvPr id="72" name="그림 9" descr="comment_128.png"/>
          <p:cNvPicPr/>
          <p:nvPr/>
        </p:nvPicPr>
        <p:blipFill>
          <a:blip r:embed="rId4"/>
          <a:stretch/>
        </p:blipFill>
        <p:spPr>
          <a:xfrm>
            <a:off x="4284720" y="4365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3" name="그림 11" descr="comment_128.png"/>
          <p:cNvPicPr/>
          <p:nvPr/>
        </p:nvPicPr>
        <p:blipFill>
          <a:blip r:embed="rId5"/>
          <a:stretch/>
        </p:blipFill>
        <p:spPr>
          <a:xfrm>
            <a:off x="6516720" y="242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2" descr="computer_128.png"/>
          <p:cNvPicPr/>
          <p:nvPr/>
        </p:nvPicPr>
        <p:blipFill>
          <a:blip r:embed="rId6"/>
          <a:stretch/>
        </p:blipFill>
        <p:spPr>
          <a:xfrm>
            <a:off x="1692360" y="3213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5" name="그림 13" descr="comment_128.png"/>
          <p:cNvPicPr/>
          <p:nvPr/>
        </p:nvPicPr>
        <p:blipFill>
          <a:blip r:embed="rId7"/>
          <a:stretch/>
        </p:blipFill>
        <p:spPr>
          <a:xfrm>
            <a:off x="2411280" y="249228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76" name="그림 14" descr="user_full_512.png"/>
          <p:cNvPicPr/>
          <p:nvPr/>
        </p:nvPicPr>
        <p:blipFill>
          <a:blip r:embed="rId8"/>
          <a:srcRect l="28434" t="0" r="25644" b="49701"/>
          <a:stretch/>
        </p:blipFill>
        <p:spPr>
          <a:xfrm>
            <a:off x="5867280" y="3141720"/>
            <a:ext cx="12495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튜링의 주장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테스트에서 기계와 인간을 구별할 수 없다면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그 기계는 생각을 한다고 할 수 있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그 기계의 후보는 바로</a:t>
            </a:r>
            <a:br>
              <a:rPr sz="3000"/>
            </a:b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추상적으로는 튜링 기계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</a:t>
            </a:r>
            <a:br>
              <a:rPr sz="3000"/>
            </a:b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구체적으로는 디지털 컴퓨터</a:t>
            </a:r>
            <a:br>
              <a:rPr sz="3000"/>
            </a:b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(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프로그램에 따른 기호 처리기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가능한 반론들에 대한 검토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신학적 반론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진실 회피형 반론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수학적 반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의식을 근거로 한 주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여러 결함을 근거로 한 주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러블레이스 부인의 반론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신경계의 연속성을 근거로 한 주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행위의 비형식성을 근거로 한 주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</a:rPr>
              <a:t>초감각적 지각을 근거로 하는 논의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수학적 반박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괴델의 정리에 따르면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어떤 일관된 논리 체계이든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그 체계 내에서 증명도 반증도 할 수 없는 언명이 정식화될 수 있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일관된 논리 체계에 기반한 디지털 컴퓨터 역시도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아무리 질문에 그럴듯한 답을 잘 하게 만든 컴퓨터라도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엉뚱한 답을 하거나 아무리 많은 시간을 주더라도 아무런 답을 내놓지 못하는 질문이 존재할 것이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튜링의 반론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어떤 특정한 기계의 능력에 한계가 있음을 인정할 수는 있다 하더라도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, </a:t>
            </a: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똑같은 한계가 사람의 지성에도 적용될 수 없다는 것은 전혀 증명되지 않았다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c00000"/>
                </a:solidFill>
                <a:latin typeface="맑은 고딕"/>
              </a:rPr>
              <a:t>사람 역시 엉뚱한 답을 하곤 하지 않는가</a:t>
            </a:r>
            <a:r>
              <a:rPr b="1" lang="en-US" sz="3000" spc="-1" strike="noStrike">
                <a:solidFill>
                  <a:srgbClr val="c00000"/>
                </a:solidFill>
                <a:latin typeface="맑은 고딕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4:47:35Z</dcterms:created>
  <dc:creator>zolaist</dc:creator>
  <dc:description/>
  <dc:language>en-US</dc:language>
  <cp:lastModifiedBy>zolaist</cp:lastModifiedBy>
  <dcterms:modified xsi:type="dcterms:W3CDTF">2011-11-22T17:02:05Z</dcterms:modified>
  <cp:revision>20</cp:revision>
  <dc:subject/>
  <dc:title>컴퓨터는 어떻게  덧셈, 뺄셈을 할까?</dc:title>
</cp:coreProperties>
</file>